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94B-3377-47D5-924E-04B5451A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A95-232B-4225-9075-3B12329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927-99DF-4510-923F-887D5CFC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093-E0FF-449B-B640-6DC2DF52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3027-C404-4963-90DB-E98CC0BF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B2B-08C0-424C-9B08-80E7898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8D69-E552-42C1-814B-1C4C0DE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8D23-147B-434F-B5F6-3C3A93C2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ED66-9CF0-47C3-A7E8-2CDB9D9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B8E0-70A9-44C4-9F30-E0689059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28B-5364-4BA2-9768-D9ED5DB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26F-EE6E-49A7-8A6A-6A171AF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2853-4374-486F-AEF9-61E612B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F53-60FE-4CD4-AE3D-4310B0E3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B2B-A268-4AAF-8CBD-D0068B9C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D3C-EA98-49B7-8162-4534C46D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382D-7EC4-4655-B25F-21694C5E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931-2AE7-4150-B08C-2FE57FC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625-B192-4764-93B5-027639B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A00-3604-4125-B8E7-30EBC613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844-F291-4B8A-9C3B-44C26EB5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11F-1DDB-4184-AB8D-BB3ABB5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765-306B-409A-958A-844A45C0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686-A4D2-40EB-8315-0735DC4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2DCE-B486-4F09-81DB-3DF7E4F2A8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56A3-C7C9-4C59-B762-DC3FE0244A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nakeeja grant and tori sh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ASCEN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OGING UP!!!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TEMPRATURE ON THE THERMOMETER IS GOGING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713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171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desc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Goging down….a picture of a thermometer temprature goging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86320" y="2952720"/>
            <a:ext cx="1713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NET P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AGES AFTER DEDUCTIONS…MY PICTURE IS A SAD FACE BECAUSE NETPAY TAKES A LOT OF DEDUCTIONS…</a:t>
            </a:r>
            <a:r>
              <a:rPr b="0" lang="en-US" sz="3200" spc="-1" strike="noStrike">
                <a:solidFill>
                  <a:srgbClr val="3399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6:31Z</dcterms:created>
  <dc:creator>nakeeja.grant</dc:creator>
  <dc:description/>
  <dc:language>en-US</dc:language>
  <cp:lastModifiedBy>nakeeja.grant</cp:lastModifiedBy>
  <dcterms:modified xsi:type="dcterms:W3CDTF">2010-11-23T14:33:34Z</dcterms:modified>
  <cp:revision>2</cp:revision>
  <dc:subject/>
  <dc:title>ASCENDING</dc:title>
</cp:coreProperties>
</file>